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937-3CE7-46EB-ACD1-A109C29A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AF1-360D-46BA-B3BA-7A2B241B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D86-FBB2-4D38-8003-C9EBDD83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CFE-D618-4E7C-9D98-5EB0A210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E8C-75C2-4E9B-97E9-70C6F5AF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C08-F653-4D71-B8C0-688F849C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1B5-63A9-40EA-877F-88551A63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6BE-2E06-4386-9039-DE197F85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3B5-1FD5-4B05-9843-5C415D38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67D-2509-4E08-BB35-C831E225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5521-2769-4F12-9C4D-1AEE880E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C6F-D40E-4385-BC42-E72C0B0E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7F46-E634-4074-BE2F-E6EB63AA2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rcRect l="11719" t="17335" r="13280" b="12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rcRect l="11719" t="19339" r="13280" b="14003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11719" t="15332" r="13280" b="140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11719" t="16668" r="13280" b="153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11719" t="16970" r="13280" b="151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11719" t="15332" r="14063" b="153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2" descr=""/>
          <p:cNvPicPr/>
          <p:nvPr/>
        </p:nvPicPr>
        <p:blipFill>
          <a:blip r:embed="rId2"/>
          <a:stretch/>
        </p:blipFill>
        <p:spPr>
          <a:xfrm>
            <a:off x="1268280" y="476280"/>
            <a:ext cx="60595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1719" t="16000" r="13280" b="146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2" descr=""/>
          <p:cNvPicPr/>
          <p:nvPr/>
        </p:nvPicPr>
        <p:blipFill>
          <a:blip r:embed="rId2"/>
          <a:stretch/>
        </p:blipFill>
        <p:spPr>
          <a:xfrm>
            <a:off x="1000080" y="208080"/>
            <a:ext cx="70707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5:20:40Z</dcterms:created>
  <dc:creator>BHISD</dc:creator>
  <dc:description/>
  <dc:language>en-US</dc:language>
  <cp:lastModifiedBy>BHISD</cp:lastModifiedBy>
  <dcterms:modified xsi:type="dcterms:W3CDTF">2012-02-21T18:35:09Z</dcterms:modified>
  <cp:revision>4</cp:revision>
  <dc:subject/>
  <dc:title>Slide 1</dc:title>
</cp:coreProperties>
</file>